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709-FD8D-43B6-B605-11FA4810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04A-919A-46ED-84B1-9B20520B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106B4-3700-4DE0-A217-3CA7D9E7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E11BA-8850-4967-82F2-B77C7DCB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3FC7D-585C-4C77-81AC-F66E999D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8FC7A-2E82-488B-9922-2D17C69D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5535E-B843-48FB-B5E6-D627D59C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901B7-22FF-4B70-86B6-99A0013C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7B1D3-4836-4A16-B0ED-80E874AF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0E37B-6078-4C92-BCAF-A460FEA8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389F0-0238-42C3-AC7B-4F030536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2AF8D-F494-4F1C-975F-4188B46E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282-EFCA-44D4-B4E3-415A8EB5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020CE-D42B-4452-893B-08D00D48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F0BA8-D7A5-4121-82EC-DEC7FF18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1AC2D-10A1-41E2-BA71-F1A7855A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AC97F-0A7D-4600-8CDB-65F4C4FB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C4A9A-776C-4E25-A063-39B3BFB9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31ABA-141A-4533-B2C1-01823409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BCCAC-A927-496D-8793-A6C892B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DBC33-441F-4E27-8E8E-F9BC188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FAF3A-10B8-4DC4-88D5-6972EE13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5E32E-EFB2-4407-BCA8-F0F5A475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7CD-6368-439B-A86D-06A36FE0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93698-7EB8-4E55-94E9-701EC5CE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BA43A-93F6-481C-B835-A0F90FD4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3E531-9766-4871-A2E6-6A76307D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4B26B-B9C4-468C-8D10-9D013A40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F34E4-27F2-47A6-8538-287BCBBC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E8ED2-6883-4AAE-AFA4-CB8C10C8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2D01E-8CCA-4E18-A878-6064302E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77E28-2976-41FC-BE41-660AC5D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044B5-1AB3-4FD8-87B5-65E5900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501E1-3559-457D-A513-98DEA3A5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D4D8-A155-47A3-9B9D-4D1BD06A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40E21-E281-4190-910E-26FFA7CE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046BE-CA74-495C-B72F-28430BDA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FD26B-782F-4330-BA82-450D9E1B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C3A6-4CB1-4288-BF9C-64BAC943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EA4B-C603-43CC-AD30-634AE878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9CAC-9A41-42D2-B00E-9F8ABB9A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889D-C524-442C-BF95-3A962DC0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9A38-C836-476B-8B98-8947C24E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E2E8-3BBE-450A-8ADB-284FB860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5EC-2901-4514-B8F6-EC274F8D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2216-2EF4-48A0-81B5-E1ECC3D9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7266-FE19-4F6E-BFFE-A0B7E946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1C9F-A205-4E02-89CD-2F7CF75D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4602-C9F6-4C57-9528-5B74D027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1538-245F-4F4B-A0AF-DF8538E1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8358-F1DE-40E3-8BAD-FC9CD027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C192-DE58-409C-B372-473355E4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C1296-BEA8-497D-BC12-C2B73026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7E617-4499-4297-AF91-6B23A4D5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4028-56F2-4921-ADB4-A7DC2B0F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D85-AF91-469F-AD33-14475F2C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F36F7-564D-4F39-8F15-F33C4176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C76C-E4FD-4DCE-B6A4-416CACBF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946E3-79B6-4471-9151-A4CDE89E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7338-323A-49F7-8B81-5B9006A6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F779-6062-411F-B0DD-C2EB3E57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2F6D-077F-4D5B-A495-C29480C5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A2866-4B21-4173-B307-7E8513C4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D36CF-7CEA-48C6-954E-0C485E8A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8A51-6E5E-4BD3-A54E-4C3FD8A6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2A2B9-1CA4-49FB-A718-21DA39E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B23-9824-4B05-B1FA-2EA48E98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BB00-7851-4E1A-8ECD-4A0738DB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397E-DA16-4FD3-94E8-972D553B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FE7B7-7A57-4F1F-BF4D-4396BAFD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E20DC-39B1-4B6E-8B90-18EF4495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BEEBD-513E-469F-91BA-2D670EAC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A0AA-B8D5-45E9-A2BC-9D2339A3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C69E-C6D4-4363-BFE2-8DD2368C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C83C-50D8-49C7-A369-DD5FDA0C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98AC-ED8C-4A52-B52D-D7052D63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63A6-A28A-4688-9632-8D5473D6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321-8211-4EEE-8A2C-FCCE13E6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754DD-E214-4F01-91F9-36B86625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B683-3CEE-42F5-9748-DCE09AC0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8132D-BFAE-4925-AFB8-CBB7466B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B6905-196F-4766-A182-5F7F2D24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44BA-7BF9-45A4-B28B-B7A7DA65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5509A-F894-4BFC-840F-5F5D4F6A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8F223-15D1-4E69-8040-67B494A0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9BED5-5742-4103-B247-F4EB213B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D0706-217C-42CB-BA05-B2ACB1EE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3D77C-7521-421D-B5C2-67D1F52F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52D-A2AD-40EE-983A-9F3E4D16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D4F9B-2882-4618-91FE-35664264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090ED-C9DF-4DEC-A489-7E801137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B4B16-0756-4703-9F7F-D54DB15D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95789-7FF1-492C-A9B9-F1872636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8EE45-B7BE-4900-9E4E-67C92108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8EEC6-B52D-44EC-9AD4-A848E087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6ABF5-C1C7-417C-94AE-1B6C52C3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0B125-211E-40B4-AEC6-A5C4FED3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9620C-B8E5-4C07-999A-31CB0B65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2FE19-F05C-4A52-AD0F-E114043D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F2E-843E-403E-97F7-0748E0AA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A8CE5-D705-4F4E-A816-E03F887C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24E56-B4D0-4E0B-B2A2-F87ACEE5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55079-1092-4B96-8613-44F3D766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5482-D431-4B57-A7D3-D88632BB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665F8-F61F-4407-827B-ABB1E36E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EF186-D939-48F0-9D79-242778A5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F2D76-00D0-4FD9-8A64-596C0512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B7F72-BD4B-43AB-8187-CF583CD1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DB5CC-0B3D-4A16-8C81-C5CEC62E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B2E85-0DD5-419D-9CF5-34B3DE63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84D-99F5-4870-979D-2E44F30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34EF9-FBDB-4AEE-9CCE-F47CFE7F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A024C-C8EB-40CA-BD44-87D108C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2389F-ADD0-49AB-ADBD-315546D3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98849-2473-4955-B677-330E1122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17D67-F208-4F72-9037-9C4E6DD8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3D8DD-5A46-407E-BA8A-0DECB30C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36C70-00DA-4B83-96D0-A636BB6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CE620-D8D2-41E7-B9D3-DCA95A44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D99AA-9378-4780-B684-F7D71554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D108A-BEA2-424C-804D-838EEC48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B6D-C8D1-4898-BE23-40BB9FE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DA4E4-9CC7-42B8-9F9D-6F177112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484B5-BE55-4684-8B6D-8A814D55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AA9F9-8B05-41F6-BDC1-7292507B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7800A-756A-49D4-8554-192486BC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01780-77BD-402B-A935-ED9B0598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8B970-ADAD-4851-B1D6-12A2A8A8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8C7FE-536F-4F40-ACDF-810F2486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95A9E-8CF1-4C93-8125-ED667856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2A878-BC9C-4B04-998D-E08D8B77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82B0D-C8F2-411B-ACE7-5A7C3FB3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C725-62B8-4C4B-854C-2D8A1DE50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601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648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28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29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30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3481-E05E-475C-A6A7-3FDE67508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7FB2-8C55-46ED-9ABC-AE33EB48C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72C6-8267-44CC-A493-C716F8A13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FEB9-56D4-43BD-AF4B-0EB7461F1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FD50-FA97-4253-B09D-0D85F644F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A859-0BDF-4424-9A4B-5B5632BE74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B190-5DE1-4AAC-BCBC-ED2F5956FB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392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02EF-BE08-4B40-A4B8-FCBB42845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38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22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3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4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942C-2E72-4D58-B269-88A61DADB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487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34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48DA-80B6-4D7A-893E-62FA66444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Bookman Old Style"/>
              </a:rPr>
              <a:t>POPULATIONS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3843360" y="2303640"/>
            <a:ext cx="2816280" cy="42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EDICTING POPULATION GROWTH, con’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4c00"/>
                </a:solidFill>
                <a:latin typeface="Tahoma"/>
              </a:rPr>
              <a:t>Logistic mode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This model accounts for the declining resources available to populations as they g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ssumes the birth and death rates are not const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population grows, births decline and death ris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tually birth=death so the population stops gr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4c00"/>
                </a:solidFill>
                <a:latin typeface="Tahoma"/>
              </a:rPr>
              <a:t>Carrying capacity (K)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number of organisms of one species that an environment can support indefinite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PREDICTING POPULATION GROWTH, con’t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wo modes of population growth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775640" cy="470052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358920" y="5734080"/>
            <a:ext cx="42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The Exponential curve (also known as a J-curv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ccurs when there is no limit to population siz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00720" y="5734080"/>
            <a:ext cx="4643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The Logistic curve (also known as an S-curv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ows the effect of a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miting fa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in this case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rrying capac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the environm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PULATION GROWTH STRATEG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re are 2 ways a population can prosp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pends on the rate of growth (r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fluenced by the carrying capacity (K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PULATION GROWTH STRATEGIES, con’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c893e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dc893e"/>
                </a:solidFill>
                <a:latin typeface="Arial"/>
              </a:rPr>
              <a:t>-strategists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characterized by exponential growth, which results in temporarily large populations, followed by sudden crashes in population size.  Ex. Insects, bacteria, some plan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ive in unpredictable and rapidly changing environmen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produce quickly when conditions are favorab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ny offspring: small, mature rapidly, no parental ca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= rate of growt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PULATION GROWTH STRATEGIES, con’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c893e"/>
                </a:solidFill>
                <a:latin typeface="Arial"/>
              </a:rPr>
              <a:t>K-</a:t>
            </a:r>
            <a:r>
              <a:rPr b="0" lang="en-US" sz="2800" spc="-1" strike="noStrike">
                <a:solidFill>
                  <a:srgbClr val="dc893e"/>
                </a:solidFill>
                <a:latin typeface="Arial"/>
              </a:rPr>
              <a:t>strategists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characterized by a high degree of specialization.  Ex. Trees, whales, tigers, et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ive in stable and predictable environmen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an compete effectivel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produce late in lif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ew offspring: large, mature slowly, often much parental ca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= carrying capac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59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POPULATION GROWTH STRATEGIES, con’t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man Populations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K-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rategist characterist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recent times however, man has learned to expand the carrying capacity of his environment by increasing food supply, combating pests and curing diseas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an Earth support this increas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amage to the planet will eventually reduce the carrying capacity for humanity and slow the growth of the human popul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98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98" fill="hold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98" fill="hold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HOW POPULATIONS EVOLV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harles Darwin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Natural selection causes biological diversity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dern version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opulations contain individuals with different versions of genes called alleles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leles that improve the chances of survival and reproduction are favored and become more common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hanges are caused by mutations in DNA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Hardy-Weinberg Principl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1908 G.H. Hardy and Wilhelm Weinberg showed that dominant alleles do not replace recessive one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Hardy-Weinberg Principl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tates: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populations do not change unless evolutionary forces act upon them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Hardy-Weinberg Principl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Background Information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call, it is at the population level that evolution occurs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 population is a group of individuals of the same species in a given area whose members can interbreed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ecause the individuals of a population can interbreed, they share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a common group of genes known as the gene pool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ach gene pool contains all the alleles for all the traits of all the population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For evolution to occur in real populations, some of the gene frequencies must change with time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gene frequency of an allele is the number of times an allele for a particular trait occurs compared to the total number of alleles for that trait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Gene frequency = the number of a specific type of allele / the total number of alleles in the gene pool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Hardy-Weinberg Principle, con’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 important way of discovering why real populations change with time is to construct a model of a population that does not change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s is just what Hardy and Weinberg did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ir principle describes a hypothetical situation in which there is no change in the gene pool (frequencies of alleles), hence no evolution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Times New Roman"/>
              </a:rPr>
              <a:t>POPULATIONS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195640" y="227628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 Narrow"/>
              </a:rPr>
              <a:t>Popula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all of the individuals of a species that live together in one place at one time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 Narrow"/>
              </a:rPr>
              <a:t>Demography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the statistical study of populations.  It is used to predict how the size of a population will change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Hardy-Weinberg Principle, con’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e frequencies of the alleles will remain unchanged generation after generation if the following conditions are met: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Large population.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The population must be large to minimize random sampling errors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Genetic drift, the random change in allele frequency in a population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, can cause great change in small population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Random mating.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There is no mating preference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No mutation.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The alleles must not change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No migration.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Exchange of genes between the population and another population (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gene flow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) must not occur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5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No natural selection.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Natural selection must not favor any particular individual. 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Natural selection is the process by which populations change in response to their environment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Natural Selection Shapes Populations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Natural selection is a powerful agent of genetic change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HOWEVER: there are limits to what it can accomplish because selection does not act directly on genes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Natural selection acts on phenotype, NOT geneotype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THEREFORE: selection against unfavorable recessive alleles is SLOW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Natural Selection Shapes Populations, con’t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 Narrow"/>
              </a:rPr>
              <a:t>Polygenic trait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: A characteristic influenced by several genes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ere are three types of selection on polygenic traits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1. directional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2.  stabilizing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3.  disruptive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atural Selection Shapes Populations, con’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47640" y="2205000"/>
            <a:ext cx="59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2205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0" y="2205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524720" y="2205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66560" y="2781360"/>
            <a:ext cx="2305080" cy="7920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419640" y="2781360"/>
            <a:ext cx="2304720" cy="7920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STABIL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372360" y="2781360"/>
            <a:ext cx="2305080" cy="7920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ISRU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547640" y="3573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0" y="3573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524720" y="3573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68360" y="4005360"/>
            <a:ext cx="2232000" cy="1079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Favors one extrem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92360" y="4005360"/>
            <a:ext cx="2232000" cy="1152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Favors the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443640" y="4005360"/>
            <a:ext cx="2232000" cy="1152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avors both ext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59636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300720" y="5589720"/>
            <a:ext cx="2735280" cy="12682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443640" y="558972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ossible rea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redators can identify easier and eat the average type org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ffff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ffff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KEY FEATURES OF POPUL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Population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number of individuals in a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n important effect on the ability of the population to surv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mall population is more likely to become extin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n the case of random events or natural dis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ue to inbreeding where the population is more genetically alike.  Recessive traits are more likely to app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ith reduced variability it is harder to adapt to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KEY FEATURES OF POPULATIONS, con’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Population density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individuals in a give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y are too far apart they may only rarely encounter one another resulting in little repro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KEY FEATURES OF POPULATIONS, con’t</a:t>
            </a: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Population size is limited by:</a:t>
            </a:r>
            <a:br>
              <a:rPr sz="3600"/>
            </a:b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nsity-dependent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red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row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greater the population, the greater effect these factors h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x. Black plague in the Middle Ages – more deaths in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nsity-independent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Volcanic eru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t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ro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hemical pesti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jor habitat disruption (as in the New Orleans floo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ost are abiotic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KEY FEATURES OF POPULATIONS, con’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3.  Disper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in which the individuals are arr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Fig. 6.3"/>
          <p:cNvPicPr/>
          <p:nvPr/>
        </p:nvPicPr>
        <p:blipFill>
          <a:blip r:embed="rId1"/>
          <a:stretch/>
        </p:blipFill>
        <p:spPr>
          <a:xfrm>
            <a:off x="0" y="3116160"/>
            <a:ext cx="9144000" cy="374184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6300720" y="64911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ost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DICTING POPULATION GROW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4c00"/>
                </a:solidFill>
                <a:latin typeface="Tahoma"/>
              </a:rPr>
              <a:t>Model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ypothetical population that has key characteristics of the real population being stud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by demographers to predict how a population will gr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DICTING POPULATION GROWTH, con’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arly all populations will tend to grow </a:t>
            </a:r>
            <a:r>
              <a:rPr b="0" lang="en-US" sz="3200" spc="-1" strike="noStrike">
                <a:solidFill>
                  <a:srgbClr val="724c00"/>
                </a:solidFill>
                <a:latin typeface="Tahoma"/>
              </a:rPr>
              <a:t>exponential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s long as there are resources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of the most basic factors that affect the rate of population growth are the birth rate, and the death ra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4c00"/>
                </a:solidFill>
                <a:latin typeface="Tahoma"/>
              </a:rPr>
              <a:t>r(rate of growth)=birth rate – death 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DICTING POPULATION GROWTH, con’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4c00"/>
                </a:solidFill>
                <a:latin typeface="Tahoma"/>
              </a:rPr>
              <a:t>Exponential growth curve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opulation growth plotted against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a population gets larger, it also grows at a faster r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the maximum population growth under ideal circumstanc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es plenty of room for each member, unlimited resources (food, water) and no hindrances (predators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392720" cy="417672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ACT:  No population exhibits this type of growth for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23:09:15Z</dcterms:created>
  <dc:creator>Pati</dc:creator>
  <dc:description/>
  <cp:keywords>POPULATIONS</cp:keywords>
  <dc:language>en-US</dc:language>
  <cp:lastModifiedBy>Dad</cp:lastModifiedBy>
  <dcterms:modified xsi:type="dcterms:W3CDTF">2009-02-01T22:12:32Z</dcterms:modified>
  <cp:revision>56</cp:revision>
  <dc:subject>POPULATIONS</dc:subject>
  <dc:title>POPULATIONS</dc:title>
</cp:coreProperties>
</file>